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9AA-FAB9-470B-A821-6062A0CA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C7C-0946-418E-92C8-5FAF14D9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FD7-8B73-4E8B-8D95-8109458C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088-0395-48F7-8D21-BB480B9C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BCEF-B35F-4AFB-B2F2-9117E25E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0250-D022-42C5-B664-9D4CED8A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7F70-566D-4F88-A831-8B4AE96A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1062-DA51-4A13-8433-0EDE5029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6E19-06E2-4486-ACDF-4A655E44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F940-8ED9-4002-9954-33B98D15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A54A-292A-46B1-9798-7AF4A962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817-86EB-4E60-A21D-283E1195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1491-4339-4430-8E56-BF1D670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9B23-680A-41FD-A2ED-9F58948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AFDC-41C0-4F79-943B-69466953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8635-EA30-493D-B917-7C54B241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3659-FEAE-4A2A-A3D7-C5B8269D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F62-7500-4E42-A641-5A36CAF9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23D-EB47-44F6-A69A-941B8674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E1E-6D86-4E6F-8E9C-7FD42B8B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872-034B-47E3-B56F-1EE0FE85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9E5-0D85-401E-BE59-667846B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C7E-A37D-4262-A445-F98A745F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CE7-76A4-42F6-97CC-9B192AC6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C8D6-4794-4DA7-A2C1-FC54FE0E0E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000E-83F0-4934-B8AB-4C7188CAB2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1773360"/>
            <a:ext cx="779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19700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Линейная функц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4797360"/>
            <a:ext cx="534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7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ай Ан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Дзюба Ольга Александ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47628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620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49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9680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281160"/>
            <a:ext cx="23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3480" y="28116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9120" y="281160"/>
            <a:ext cx="815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1628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&gt; 0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я у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 +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является возрастающей, а пр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&lt; 0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убывающ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2205000"/>
            <a:ext cx="81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ластью значений линейной функции являются все действительные чис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strips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234936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фиком линейной функции является прям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71640" y="5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построения графика линейной функции достаточно найти координаты двух точек графика, отметить их на координатной плоскости и провести через них пряму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0000" y="76500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464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62064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им график функции у = 2х + 3                                                         Функция у = 2х + 3 линейная, поэтому её графиком является прямая. Используя формулу у = 2х + 3, найдём координаты двух точек графика. Если   х = -2 , то у = 2  (-2) + 3 = - 1; если  х = 1,  то у = 2   1+3=5. Отметим точки (-2;-1) и (1;5) и проведём через них прямую – граф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635280" y="3141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1080" y="3573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newsflash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V="1">
            <a:off x="4572000" y="981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3068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084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2765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708360" y="3015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43560" y="352908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924360" y="3015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140360" y="3025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43560" y="3284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356000" y="3025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572000" y="3025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788000" y="30348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005440" y="3015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221440" y="3015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37080" y="3025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543560" y="397512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43560" y="37306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543560" y="240516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43560" y="2160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543560" y="285120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43560" y="26067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348000" y="887400"/>
            <a:ext cx="1992240" cy="398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83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75520" y="278136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7863200">
            <a:off x="2984400" y="4160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26920" y="765000"/>
            <a:ext cx="75614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ым случаем линейной функции является прямая пропорцион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й пропорциональностью называется функция, которую можно задать формулой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, где х – независимая переменная,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 равное нулю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прямой пропорциональности представляет собой прямую, проходящую через начало координ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99640" y="2133720"/>
            <a:ext cx="71629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заимное расположение графиков линейной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flipV="1">
            <a:off x="6804000" y="2709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4797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642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9764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53360" y="525312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56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29000" y="2752560"/>
            <a:ext cx="259236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92360" y="2565360"/>
            <a:ext cx="309564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227640" y="3429000"/>
            <a:ext cx="237672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678000">
            <a:off x="6899760" y="29916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x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8672000">
            <a:off x="7472520" y="3768480"/>
            <a:ext cx="9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700200">
            <a:off x="6772680" y="2701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x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775560" y="523872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75560" y="4994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4000" y="47350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75560" y="54403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75560" y="411480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75560" y="3870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775560" y="4560480"/>
            <a:ext cx="7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5560" y="43164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6720" y="407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26080" y="36925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549360"/>
            <a:ext cx="42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, которые являются графиками линейных функций вида у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одинаковыми коэффициентами при х и различными значения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84920" y="438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6948360" y="2060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08720" y="4148280"/>
            <a:ext cx="345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84720" y="409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919920" y="4608000"/>
            <a:ext cx="7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00720" y="409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516720" y="41054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19920" y="43639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732720" y="41054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948360" y="41054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164360" y="411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381800" y="409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597800" y="4095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813800" y="41054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919920" y="505476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19920" y="48099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919920" y="3484080"/>
            <a:ext cx="7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19920" y="3240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919920" y="3930120"/>
            <a:ext cx="7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19920" y="3686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48360" y="3357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724000" y="1967040"/>
            <a:ext cx="1992600" cy="39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1916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7863200">
            <a:off x="5360400" y="5240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921280" y="2420640"/>
            <a:ext cx="2106720" cy="20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084360" y="2637000"/>
            <a:ext cx="230364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9003800">
            <a:off x="7380720" y="2313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654400">
            <a:off x="7956000" y="4581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260280"/>
            <a:ext cx="3888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оэффициенты при х не равны, а знач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аковы, то графики таких функций пересекаются в точке      ( х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 у = - х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х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2х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29640" y="373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cut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нейной функцией называется функция, которую можно задать формулой ви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у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x+b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где х – независимая переменная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некоторые числа. 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, в частности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 = 0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 получится постоянная функция у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000"/>
            </a:br>
            <a:br>
              <a:rPr sz="3000"/>
            </a:br>
            <a:br>
              <a:rPr sz="2100"/>
            </a:br>
            <a:br>
              <a:rPr sz="21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ut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V="1">
            <a:off x="7020000" y="2421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0" y="450864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48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156360" y="4455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991200" y="496836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372360" y="4455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588000" y="44658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9120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804000" y="44658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020000" y="44658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236000" y="44748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453440" y="4455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669080" y="4455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885080" y="44658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991200" y="5415120"/>
            <a:ext cx="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91200" y="5170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991200" y="384444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91200" y="3600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991200" y="429048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1200" y="40464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2000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796000" y="2327400"/>
            <a:ext cx="1992240" cy="39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20000" y="227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7863200">
            <a:off x="5432040" y="560088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7863200">
            <a:off x="5663880" y="57081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4360" y="47628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оэффициенты     при х равны и значе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инаковы, то графики линейных функций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729640" y="409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lu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Примеры линейных функци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= 2х + 3 (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= 2, b = 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0,5x + 4 ( k = - 0,5, b = 4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4x ( k = 4, b = 0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7,5 ( k = 0, b =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over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хождение значений функции по заданному значению аргу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6200" y="1871280"/>
            <a:ext cx="69166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дана функция у = 5х-2 и значение аргумента, равное  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значение дан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= 5∙(-1)-2 = -5-2 = 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615000" y="2597040"/>
                <a:ext cx="106560" cy="1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134040" y="4024440"/>
                <a:ext cx="10670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advTm="26000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линейной  функц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Область определения функ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896472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ластью определения линейной функции являются все действительные чис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r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04640"/>
            <a:ext cx="8423280" cy="31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нейная функция у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является чётной, есл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0 , нечётной, есл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0 и ни чётной ни нечётной, есл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k   0, 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292720" y="2997360"/>
                <a:ext cx="358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589800" y="29955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advTm="20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54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692280"/>
            <a:ext cx="756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4560" y="836640"/>
            <a:ext cx="82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в уравне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x + b =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найдём, что х = -   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чит, у = 0 при х = -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076720" y="1484280"/>
                <a:ext cx="455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588000" y="2133720"/>
                <a:ext cx="455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11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&gt; 0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-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0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&lt; 0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ри 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0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15000" y="2597040"/>
                <a:ext cx="106560" cy="1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292720" y="1484280"/>
                <a:ext cx="504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508720" y="2492280"/>
                <a:ext cx="455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435640" y="3500280"/>
                <a:ext cx="36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438880" y="4297320"/>
                <a:ext cx="398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31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54Z</dcterms:created>
  <dc:creator>ученик</dc:creator>
  <dc:description/>
  <dc:language>en-US</dc:language>
  <cp:lastModifiedBy> sosh</cp:lastModifiedBy>
  <dcterms:modified xsi:type="dcterms:W3CDTF">2008-01-22T10:08:01Z</dcterms:modified>
  <cp:revision>6</cp:revision>
  <dc:subject/>
  <dc:title>Слайд 1</dc:title>
</cp:coreProperties>
</file>